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0.pct" ContentType="image/x-pict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D6A-F0B9-4F91-B151-AEFCD6B6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959-5DCC-49B4-A013-E5FC1130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D14-0D81-4270-9FC0-686B127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682-0B39-40CE-AE3B-CD28E53E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DA3-4A5F-4FC5-A048-08698483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A55-03E1-4886-9E79-B75A992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59A-45B9-45DF-861E-280257EB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F86-6ED6-49A7-BDF4-E5A4DFC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27C-1DCC-498A-861B-27CAD42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31D-09A3-4CDD-9F74-52E3B2C6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675-4957-4AB5-9F63-B53E0CAF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515-3579-414E-BB59-D29F85E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501-6CDD-43D8-A488-EC5619F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1604-7E59-442F-ABCD-F637572C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September 2005 to provide a national focus on the use of ontologies in the bio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ortium that brings together investigator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ity (Ontology-management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rence Berkeley Labs (Use of ontologies for data ann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Victoria (Ontology and data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o Clinic (Access to controlled clinical termi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Y Buffalo (Best practices for ontology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: Industrial-strength technology for use of ontologies in e-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4280" y="10126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880" y="0"/>
            <a:ext cx="8456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4"/>
            <a:endCxn id="10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5" idx="1"/>
            <a:endCxn id="10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4" idx="4"/>
            <a:endCxn id="10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needs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e National Cen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Biomedical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ontology libraries in cyb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data standards for ontolog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methods for ontology indexing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 portals for ontology access, annotation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platforms for putting ontologies to us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-langu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pplications that we have not yet thought 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 to collaborate with the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enter’s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ontologies to the OBO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 proposal to the NIH for a “collaborating R01”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a biological driving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72400" y="6083280"/>
            <a:ext cx="1371600" cy="77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4800" y="624852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t have adopted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canonical representation of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notate experimental data to enable interpretation and comparison across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cilitate knowledge-based application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893880"/>
            <a:ext cx="7924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of relatively smal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built and refined by small groups working arduously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rests heavily on the particular talents of individual artisans, rather than on standard operating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urgent need for technologies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04:53Z</dcterms:created>
  <dc:creator>Mark Musen</dc:creator>
  <dc:description/>
  <dc:language>en-US</dc:language>
  <cp:lastModifiedBy>SMI</cp:lastModifiedBy>
  <dcterms:modified xsi:type="dcterms:W3CDTF">2006-02-13T10:49:32Z</dcterms:modified>
  <cp:revision>55</cp:revision>
  <dc:subject/>
  <dc:title>The End of a Cottage Industry: The coming industrial revolution for biomedical ontologies</dc:title>
</cp:coreProperties>
</file>